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8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5EF-DAD9-44BC-8D15-1F327C62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9BA-81EF-46EE-9529-2BA4C271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7CD-F63C-4D22-8FE3-E17B0E3D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A3D-5E2A-4B2A-A563-A89ED50C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5AA-B2C4-4123-9AB2-0A5AB16E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C3F-BA88-42D5-B1A8-7F417BD6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626-B2D0-4684-ACE3-1222412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E3D-C7AC-4A7D-8EDA-6EC94C1F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C7E-F7E0-48C7-9C2E-89A752B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2CB-5BE2-4C7B-8645-977843F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FC2-A714-4624-95B3-90092D17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70D-9732-496A-A2FB-4308E3A9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64A9-26D6-4D41-91A1-8134C96F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-1143000"/>
            <a:ext cx="6622920" cy="800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ve en el zool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óg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609480" y="1239840"/>
            <a:ext cx="79250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ápido o len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815000" cy="502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ande  o  pequ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ño/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324840" cy="468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4572000"/>
            <a:ext cx="9144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ve en la tier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ve en el agu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57200" y="12952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 co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mug cat high tail"/>
          <p:cNvPicPr/>
          <p:nvPr/>
        </p:nvPicPr>
        <p:blipFill>
          <a:blip r:embed="rId1"/>
          <a:stretch/>
        </p:blipFill>
        <p:spPr>
          <a:xfrm>
            <a:off x="533520" y="228600"/>
            <a:ext cx="4413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ene </a:t>
            </a:r>
            <a:br>
              <a:rPr sz="6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s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           ale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645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en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las pa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858960"/>
            <a:ext cx="579132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m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601" b="0"/>
          <a:stretch/>
        </p:blipFill>
        <p:spPr>
          <a:xfrm>
            <a:off x="457200" y="1116000"/>
            <a:ext cx="817236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r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762120" y="1382760"/>
            <a:ext cx="7791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a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609480" y="1079640"/>
            <a:ext cx="80010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36:05Z</dcterms:created>
  <dc:creator>System User</dc:creator>
  <dc:description/>
  <dc:language>en-US</dc:language>
  <cp:lastModifiedBy>System User</cp:lastModifiedBy>
  <dcterms:modified xsi:type="dcterms:W3CDTF">2011-05-12T02:48:00Z</dcterms:modified>
  <cp:revision>6</cp:revision>
  <dc:subject/>
  <dc:title>Slide 1</dc:title>
</cp:coreProperties>
</file>